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8CD3-A3F3-4613-8D1A-4F687CA3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E01B-5EB3-4676-8BB8-6036C81E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A5D0-3950-49A4-BA7D-F65A636D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D57F-73F8-4918-9BB5-CDA0D801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748C-2996-4C3D-AA4A-3CFAA420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3709-B701-413D-8367-FC490302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7BD4-B63F-4B88-B958-D6D1FFB1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4E3C-69CB-43C5-A827-79DD0D3A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83FD-677B-4096-AC9E-4E894439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1293-4F3C-4421-9487-54F93990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D31-BF44-4448-849E-4CE8867A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670F-3BFD-49A5-8079-091C4A3E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D968-28CC-4BE2-A72D-F0C38543B26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F56AAF57-CC9E-4074-994B-27D48FCE049B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2.1 THE ESSENCE OF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3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57120" y="1500120"/>
            <a:ext cx="8382240" cy="43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Rom. 8.9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ὑμεις δε οὐκ ἐστε ἐ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αρκι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ἀλλα ἐ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νευματ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you are not i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les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but i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piri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Matt. 16.17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Ἰησους εἰπεν αὐτῳ∙ Μακαριος εἶ, Σιμων Βαριωνα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τ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αρξ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ἱμα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οὐκ ἀπεκαλυψεν σοι ἀλλα’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 πατηρ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μ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esus said to him, 'You are blessed, Simon Bariona, becaus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les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loo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id not reveal (this) to you, but my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athe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cts 2.17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ει ὁ θεος∙ Ἐκχεῶ ἀπο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ου πνευματο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μου ἐπι πασα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αρκα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και προφητευσουσιν οἱ υἱοι ὑμων και αἱ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θυγατερε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ὑμ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God says, 'I will pour out from my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piri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on all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les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and you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ons and your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aughter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will prophesy.'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B000E59F-6D53-44FA-BE0C-70A8B30D5B96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24444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2.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τι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τ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28600" y="1427040"/>
            <a:ext cx="8686800" cy="9219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Arial"/>
              </a:rPr>
              <a:t>τις</a:t>
            </a:r>
            <a:r>
              <a:rPr b="0" lang="en-GB" sz="2800" spc="-1" strike="noStrike">
                <a:solidFill>
                  <a:srgbClr val="000000"/>
                </a:solidFill>
                <a:latin typeface="Greek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is the indefinite pronoun - someone, any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Arial"/>
              </a:rPr>
              <a:t>τίς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is the interrogative pronoun - who? what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81200" y="2643120"/>
          <a:ext cx="7505640" cy="3335400"/>
        </p:xfrm>
        <a:graphic>
          <a:graphicData uri="http://schemas.openxmlformats.org/drawingml/2006/table">
            <a:tbl>
              <a:tblPr/>
              <a:tblGrid>
                <a:gridCol w="1020600"/>
                <a:gridCol w="1725480"/>
                <a:gridCol w="1695600"/>
                <a:gridCol w="1731960"/>
                <a:gridCol w="1332000"/>
              </a:tblGrid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ulineFemini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ulineFemini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σ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σ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796CF9B0-88FA-44E5-8185-D6DCE521BEC8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4444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2.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τι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τ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43080" y="1274760"/>
            <a:ext cx="845820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se as Pronoun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ίνα θεωρε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om do you see? 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βλεψα τιν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 saw someo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ίς ἐρχε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o is coming?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ει τ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omeone is listen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περι τίνων λεγε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at/Who are you speaking ab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se as Adjectiv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ίνα μισθον ἐχε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r>
              <a:rPr b="0" lang="en-GB" sz="20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at reward do you hav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στρατιωται τινες ἐρχονται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.</a:t>
            </a:r>
            <a:r>
              <a:rPr b="0" lang="en-GB" sz="20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ome soldiers are com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Ι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t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an also mean 'why?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ί λεγε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y are you speaking ? 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'what are you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aying'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23C67190-E2A4-488F-8D32-695BCA918BEC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444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2.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τι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  <a:ea typeface="Arial"/>
              </a:rPr>
              <a:t>τ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85840" y="1428840"/>
            <a:ext cx="85010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Distinguishing between </a:t>
            </a:r>
            <a:r>
              <a:rPr b="1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ις</a:t>
            </a:r>
            <a:r>
              <a:rPr b="1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 (someone) and </a:t>
            </a:r>
            <a:r>
              <a:rPr b="1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ίς</a:t>
            </a:r>
            <a:r>
              <a:rPr b="1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 (who?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Three ways: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context normally makes it very clear (and indeed there will be a question mark i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ί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s meant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ι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someone) cannot be the first word in a sentence, whil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ί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who) frequently i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You can learn some relatively simply rules about the acce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ccent on the first syllable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ί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who?, what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o accent or an accent on the second syllable 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ι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someone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E6072ED5-F350-4ED0-BF8F-B711500BEADC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2.1 THE ESSENCE OF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THE 3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609480" y="1407960"/>
            <a:ext cx="7925040" cy="48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ere are a few characteristic features of the 3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declens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9000" indent="-1890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e masculine and feminine are identical; the neuter is simil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9000" indent="-1890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e nominative singular form is irregular – it is not formed from the stem plus an ending, although all the other forms a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9000" indent="-1890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Because the nominative is irregula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for a 3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declension word you need to learn both the nominative and another form from which the stem can be deduced (the genitive is best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no ending indicates that a word is 3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declension, as up to now words ending in -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have always declined like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λογ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. Indeed, the beauty of the 3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declension is its ability to cope with words whatever their nominativ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770DD3A9-F068-4C39-8684-779792485BCD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14240" y="1295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nding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are as follow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610000" y="1928880"/>
          <a:ext cx="3924000" cy="2468520"/>
        </p:xfrm>
        <a:graphic>
          <a:graphicData uri="http://schemas.openxmlformats.org/drawingml/2006/table">
            <a:tbl>
              <a:tblPr/>
              <a:tblGrid>
                <a:gridCol w="1000080"/>
                <a:gridCol w="1724040"/>
                <a:gridCol w="1199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ri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 Box 85"/>
          <p:cNvSpPr/>
          <p:nvPr/>
        </p:nvSpPr>
        <p:spPr>
          <a:xfrm>
            <a:off x="304920" y="4495680"/>
            <a:ext cx="853416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89000" indent="-1890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On the whole there is no connection between these endings and those of th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/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declension, although 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genitive plur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ending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ω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s the sa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04920" y="157176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atch out for the endings which are used differently in th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declension than in th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/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98440" y="2857680"/>
          <a:ext cx="8515440" cy="2743200"/>
        </p:xfrm>
        <a:graphic>
          <a:graphicData uri="http://schemas.openxmlformats.org/drawingml/2006/table">
            <a:tbl>
              <a:tblPr/>
              <a:tblGrid>
                <a:gridCol w="684360"/>
                <a:gridCol w="3603600"/>
                <a:gridCol w="422748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Decl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/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Decl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 s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. nom. s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 sing. (masc. or fem.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. nom. or acc. pl. (or nom. sing. of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ἡμερ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 pl. (masc. or fem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m. acc. pl. (or gen. sing. of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ἡμερ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5077E3B2-C227-41A1-9150-9968DF8A303D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F2ABCC08-CB3D-4735-930D-40A39B789BC9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42960" y="1447920"/>
            <a:ext cx="7643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or example, 'star'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στηρ, ἀστερ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,  and therefore its stem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ἀστερ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-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ence it declines as follow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60520" y="3081240"/>
          <a:ext cx="5969160" cy="2468520"/>
        </p:xfrm>
        <a:graphic>
          <a:graphicData uri="http://schemas.openxmlformats.org/drawingml/2006/table">
            <a:tbl>
              <a:tblPr/>
              <a:tblGrid>
                <a:gridCol w="1135080"/>
                <a:gridCol w="2325600"/>
                <a:gridCol w="2508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ηρ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5628072C-7C8C-49FB-BFFB-6CAC3DA6E83F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86"/>
          <p:cNvSpPr/>
          <p:nvPr/>
        </p:nvSpPr>
        <p:spPr>
          <a:xfrm>
            <a:off x="1805040" y="126684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12.2.1 Note on the dative plur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66920" y="1839960"/>
          <a:ext cx="4734000" cy="1508040"/>
        </p:xfrm>
        <a:graphic>
          <a:graphicData uri="http://schemas.openxmlformats.org/drawingml/2006/table">
            <a:tbl>
              <a:tblPr/>
              <a:tblGrid>
                <a:gridCol w="1538280"/>
                <a:gridCol w="603360"/>
                <a:gridCol w="877680"/>
                <a:gridCol w="757440"/>
                <a:gridCol w="95724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ψ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ξ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60"/>
          <p:cNvSpPr/>
          <p:nvPr/>
        </p:nvSpPr>
        <p:spPr>
          <a:xfrm>
            <a:off x="495360" y="3322800"/>
            <a:ext cx="8153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'flesh'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σαρξ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σαρκ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and so the dative plural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σαρξι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'child'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παι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παιδ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and so the dative plural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παισι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90640" y="4714920"/>
          <a:ext cx="5562720" cy="503280"/>
        </p:xfrm>
        <a:graphic>
          <a:graphicData uri="http://schemas.openxmlformats.org/drawingml/2006/table">
            <a:tbl>
              <a:tblPr/>
              <a:tblGrid>
                <a:gridCol w="2781360"/>
                <a:gridCol w="2781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ντ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ντ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 Box 184"/>
          <p:cNvSpPr/>
          <p:nvPr/>
        </p:nvSpPr>
        <p:spPr>
          <a:xfrm>
            <a:off x="490680" y="5143680"/>
            <a:ext cx="84391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'ruler'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ἀρχω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ἀρχοντ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so the dative plural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Arial"/>
              </a:rPr>
              <a:t>ἀρχουσι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2B9CA9D3-1F22-428E-B7DC-679370C77D78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60440" y="1714680"/>
          <a:ext cx="6421320" cy="1371600"/>
        </p:xfrm>
        <a:graphic>
          <a:graphicData uri="http://schemas.openxmlformats.org/drawingml/2006/table">
            <a:tbl>
              <a:tblPr/>
              <a:tblGrid>
                <a:gridCol w="1333440"/>
                <a:gridCol w="2664000"/>
                <a:gridCol w="24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ηρ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ll follow the same slightly irregular patt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τηρ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μητρο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ugh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υγατηρ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υγατ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857680" y="3214800"/>
          <a:ext cx="3641400" cy="2225520"/>
        </p:xfrm>
        <a:graphic>
          <a:graphicData uri="http://schemas.openxmlformats.org/drawingml/2006/table">
            <a:tbl>
              <a:tblPr/>
              <a:tblGrid>
                <a:gridCol w="866520"/>
                <a:gridCol w="1341360"/>
                <a:gridCol w="1433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η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ρ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ρ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ρ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ρ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ρ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ρ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115"/>
          <p:cNvSpPr/>
          <p:nvPr/>
        </p:nvSpPr>
        <p:spPr>
          <a:xfrm>
            <a:off x="361800" y="5380200"/>
            <a:ext cx="8420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he e is sometimes part of the stem, and sometimes not. Also the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  <a:ea typeface="Arial"/>
              </a:rPr>
              <a:t>α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in the dative plural.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  <a:ea typeface="Arial"/>
              </a:rPr>
              <a:t>πατηρ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(alone) also has an irregular vocative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  <a:ea typeface="Arial"/>
              </a:rPr>
              <a:t>πατ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ε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  <a:ea typeface="Arial"/>
              </a:rPr>
              <a:t>ρ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16"/>
          <p:cNvSpPr/>
          <p:nvPr/>
        </p:nvSpPr>
        <p:spPr>
          <a:xfrm>
            <a:off x="2571840" y="1138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12.2.2 The family group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00326C21-92A3-4CDA-BE84-E76DFB6581D3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2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NEUTER NOUNS WITH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CONSONANT STE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57160" y="1163520"/>
          <a:ext cx="6296040" cy="2270160"/>
        </p:xfrm>
        <a:graphic>
          <a:graphicData uri="http://schemas.openxmlformats.org/drawingml/2006/table">
            <a:tbl>
              <a:tblPr/>
              <a:tblGrid>
                <a:gridCol w="973080"/>
                <a:gridCol w="2662560"/>
                <a:gridCol w="2660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rio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dentical to 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dentical to 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ο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ω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σιν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 (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 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σι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95"/>
          <p:cNvSpPr/>
          <p:nvPr/>
        </p:nvSpPr>
        <p:spPr>
          <a:xfrm>
            <a:off x="2143080" y="3500280"/>
            <a:ext cx="457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'body'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σωμα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σωματος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: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57160" y="4060800"/>
          <a:ext cx="5079960" cy="2317680"/>
        </p:xfrm>
        <a:graphic>
          <a:graphicData uri="http://schemas.openxmlformats.org/drawingml/2006/table">
            <a:tbl>
              <a:tblPr/>
              <a:tblGrid>
                <a:gridCol w="1220760"/>
                <a:gridCol w="1887480"/>
                <a:gridCol w="19717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σωμ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σωματ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σωμ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σωματ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σωματο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σωματω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σωματ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Arial"/>
                        </a:rPr>
                        <a:t>σωμασι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143000" y="1230480"/>
          <a:ext cx="6667560" cy="2987640"/>
        </p:xfrm>
        <a:graphic>
          <a:graphicData uri="http://schemas.openxmlformats.org/drawingml/2006/table">
            <a:tbl>
              <a:tblPr/>
              <a:tblGrid>
                <a:gridCol w="871560"/>
                <a:gridCol w="1506600"/>
                <a:gridCol w="1361880"/>
                <a:gridCol w="1509840"/>
                <a:gridCol w="14176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u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ur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min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ul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min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νο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164"/>
          <p:cNvSpPr/>
          <p:nvPr/>
        </p:nvSpPr>
        <p:spPr>
          <a:xfrm>
            <a:off x="173160" y="4411800"/>
            <a:ext cx="8786520" cy="19843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in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f a noun and an adjective qualifying it are from different families, their endings will differ even when they are agreeing in gender, case and numbe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.g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ἀγαθος ἐχει πλειον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ς φιλ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υ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- The good man has more friend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2:Grammar </a:t>
            </a:r>
            <a:fld id="{F0A7DBF0-BFDE-42F9-A0B2-5601637CF99A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12.4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ADJECTIVES WITH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CONSONANT STE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8:45:46Z</dcterms:created>
  <dc:creator>Sarah</dc:creator>
  <dc:description/>
  <dc:language>en-US</dc:language>
  <cp:lastModifiedBy>Sarah</cp:lastModifiedBy>
  <dcterms:modified xsi:type="dcterms:W3CDTF">2008-09-19T11:28:02Z</dcterms:modified>
  <cp:revision>33</cp:revision>
  <dc:subject/>
  <dc:title>Slide 1</dc:title>
</cp:coreProperties>
</file>